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E46-B906-49D0-97B8-96B03CCB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91D-B658-45F5-9DC4-FB599930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097-62C8-4D21-8921-4F5392B8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4AF-C732-44E1-88A1-E8512F4E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21B-44DE-44DB-B4A7-B6F4C6D4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64C-0263-4CBC-97F9-BE4C2A99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929-E432-4E70-A3E2-E54ACB56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96D-B6AE-42B6-814E-4C0E4A35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8E8-5EE0-49C3-B111-F59AF0E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CCC-C048-456A-A9C5-DEB13FA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1F56-5566-4FFB-8727-3DF9283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7A5-E7EB-40DF-9A32-063344AF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AAD9-2E35-46C0-A38E-D546E982A7C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Languages_-_a_revolution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int.org/features/2014/06/01/keynote-minority-language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63760" y="1052640"/>
            <a:ext cx="548496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Quiz about minority languag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17604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1200" y="260280"/>
            <a:ext cx="2975040" cy="525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63760" y="5370480"/>
            <a:ext cx="59007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you think?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country is Galicia part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France / Spain /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How many people in the world speak Galici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.5 million / 2,500 / 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 How many years have Aborigines lived in Australia? 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 500,000 / 50,000 / 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. What % of US drugs come from native remedies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80% / 50% /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. How many years ago did humans first start using languag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,500,000 / 150,000 / 1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456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. About how many languages are there now in the world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0 / 700 /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. How many languages do linguists think we could have in 100 years?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600 / 60 /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. When did French become the standard language of Franc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4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6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8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9. How many people speak Sami (from Scandinavia / Russia)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00,000 / 20,000 / 2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. How many official local languages are there in Zambia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 / 70 /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 this to find the answer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Languages_-_a_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762200" y="2781360"/>
            <a:ext cx="5619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Key: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5 mi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7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7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8. 18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9. 2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0. 7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Now read the original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features/2014/06/01/keynote-minority-langu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33320" y="5013360"/>
            <a:ext cx="2697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8T09:44:50Z</dcterms:created>
  <dc:creator>Linda Ruas</dc:creator>
  <dc:description/>
  <dc:language>en-US</dc:language>
  <cp:lastModifiedBy>Linda Ruas</cp:lastModifiedBy>
  <dcterms:modified xsi:type="dcterms:W3CDTF">2014-06-08T11:47:25Z</dcterms:modified>
  <cp:revision>6</cp:revision>
  <dc:subject/>
  <dc:title>Quiz about minority languages</dc:title>
</cp:coreProperties>
</file>